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3AA6-6802-4268-B52E-5BCC1A27F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4C0A-90C5-4AB9-9644-B294CD41D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A54B-3702-4DC1-9EDD-27CBB6894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3712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8390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D5C3-09AD-4649-81D8-F9E7ED914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C1FD8-E8E1-493C-9C5F-0D654539D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35F25-2CB4-4FB7-AE4B-94644E351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674C-AEA5-4501-8ED6-B4DC2C6CD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43CD2-AEEE-4F7B-B3E3-09AEE7E5E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6781680" cy="367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C58F7-3103-45EE-AD2F-D4BA28087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A80A-9016-4755-9EF4-9B0B51CA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8390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99FD-BCDB-4689-8AD4-99F847627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3712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8390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923CC-91F1-4386-B1B0-01E1DD3BA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5d5dff"/>
              </a:gs>
              <a:gs pos="100000">
                <a:srgbClr val="0409e4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240"/>
            <a:ext cx="822960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1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2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3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≈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4"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1" i="1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dddddd"/>
                </a:solidFill>
                <a:latin typeface="Arial"/>
              </a:rPr>
              <a:t>Mar 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00440"/>
            <a:ext cx="289584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CA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1400" spc="-1" strike="noStrike">
                <a:solidFill>
                  <a:srgbClr val="dddddd"/>
                </a:solidFill>
                <a:latin typeface="Arial"/>
              </a:rPr>
              <a:t>BatteryMonitor Trim Resis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dddddd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0A12-D572-4E4E-851E-D95934964A60}" type="slidenum">
              <a:rPr b="0" lang="en-US" sz="1400" spc="-1" strike="noStrike">
                <a:solidFill>
                  <a:srgbClr val="ddddd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257960" y="241200"/>
            <a:ext cx="1544760" cy="828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6781680" cy="79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i="1" lang="en-CA" sz="4000" spc="-1" strike="noStrike">
                <a:solidFill>
                  <a:srgbClr val="ffff00"/>
                </a:solidFill>
                <a:latin typeface="Arial"/>
              </a:rPr>
              <a:t>Trim Resistor</a:t>
            </a:r>
            <a:endParaRPr b="1" i="1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4038480" cy="472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333333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Used if current to voltage converter is outside +/- 5 % tolerance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CA" sz="2000" spc="-1" strike="noStrike">
                <a:solidFill>
                  <a:srgbClr val="ffff00"/>
                </a:solidFill>
                <a:latin typeface="Arial"/>
              </a:rPr>
              <a:t>Parallel resistor trims sense resistor to just under 2.5mOhms</a:t>
            </a:r>
            <a:endParaRPr b="1" i="1" lang="en-US" sz="2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395960" y="1933560"/>
            <a:ext cx="4389120" cy="38894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723960" y="3611520"/>
            <a:ext cx="4038480" cy="1881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333333">
                <a:alpha val="50000"/>
              </a:srgbClr>
            </a:outerShdw>
          </a:effectLst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1E63-EA6E-4AA5-A998-FDDD103DF63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6:02:54Z</dcterms:created>
  <dc:creator>PostHouse</dc:creator>
  <dc:description/>
  <dc:language>en-US</dc:language>
  <cp:lastModifiedBy>w.getchell</cp:lastModifiedBy>
  <cp:lastPrinted>2011-03-11T04:19:00Z</cp:lastPrinted>
  <dcterms:modified xsi:type="dcterms:W3CDTF">2011-03-24T21:32:11Z</dcterms:modified>
  <cp:revision>138</cp:revision>
  <dc:subject/>
  <dc:title>Slide 1</dc:title>
</cp:coreProperties>
</file>